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ED52-D522-4543-83DC-1672D38D7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8CB0-5424-4EF0-82C2-D096B1FD3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A9A8-EB6F-45D7-83C6-609347BBF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D477-D8B9-4C2A-A97D-FE7440ECD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B7CC4-04A9-458D-8C9F-58D863FA8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18AC2-BC1C-4CF5-BD5C-1B5F9F67B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05069-5411-48CB-9045-D0668259F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0EF7B-2662-4003-AF03-8EAF70AD2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F747E-EB17-4E49-A823-9AEA0199B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B7FCC-2A61-4F62-A41D-060F560D4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5FE6E-0ED9-418A-B956-73D9DA6E4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26C3-E34B-445F-9C48-5C5CA1CCC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5DB15-D4EB-41FD-AD44-C2676AB5A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AE814-3ADB-4FB6-8DFB-5D7B8200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9C013-7104-414A-BA94-1D296C0D0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CDDA9-967F-4994-984E-12B7201AC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AA4BC-9966-4013-8849-7B143DFB9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1B04-BD26-4F03-9371-E36701875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FC09-6133-4256-AD81-63AE7ACBE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6986-470F-4E6A-80C5-0378D40C0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5696-ED28-4C78-8A1B-8E39FE9DD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6F16-813E-4394-BB5D-F56C16C9E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084B-E803-41A5-A936-ACC0C6E4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5AD8-C5E2-4325-9118-9AA9E5AC6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C9BAB-BDEE-4821-B682-20F039CDD11C}" type="slidenum">
              <a:rPr b="0" lang="cs-CZ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35CF6-D09A-4712-825C-A5754AA82658}" type="slidenum">
              <a:rPr b="0" lang="cs-CZ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imes New Roman"/>
              </a:rPr>
              <a:t>KLINICKÁ NUKLEÁRNÍ MEDICÍNA NA ČESKÉM INTERNETU V RÁMCI STRÁNKY KC SOLID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Zahrádka, F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KC SOLID, spol. s r.o., Prah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imes New Roman"/>
              </a:rPr>
              <a:t>Těšíme se nashledanou na www !</a:t>
            </a:r>
            <a:br>
              <a:rPr sz="4400"/>
            </a:br>
            <a:br>
              <a:rPr sz="4400"/>
            </a:br>
            <a:r>
              <a:rPr b="1" i="1" lang="cs-CZ" sz="4400" spc="-1" strike="noStrike">
                <a:solidFill>
                  <a:srgbClr val="ffffcc"/>
                </a:solidFill>
                <a:latin typeface="Times New Roman"/>
              </a:rPr>
              <a:t>www.kcsolid.cz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1" name="imuno" descr=""/>
          <p:cNvPicPr/>
          <p:nvPr/>
        </p:nvPicPr>
        <p:blipFill>
          <a:blip r:embed="rId1"/>
          <a:stretch/>
        </p:blipFill>
        <p:spPr>
          <a:xfrm>
            <a:off x="609480" y="5605560"/>
            <a:ext cx="3048120" cy="490320"/>
          </a:xfrm>
          <a:prstGeom prst="rect">
            <a:avLst/>
          </a:prstGeom>
          <a:ln w="0">
            <a:noFill/>
          </a:ln>
        </p:spPr>
      </p:pic>
      <p:pic>
        <p:nvPicPr>
          <p:cNvPr id="142" name="KC_logo" descr=""/>
          <p:cNvPicPr/>
          <p:nvPr/>
        </p:nvPicPr>
        <p:blipFill>
          <a:blip r:embed="rId2"/>
          <a:stretch/>
        </p:blipFill>
        <p:spPr>
          <a:xfrm>
            <a:off x="3657600" y="4419720"/>
            <a:ext cx="1828800" cy="609480"/>
          </a:xfrm>
          <a:prstGeom prst="rect">
            <a:avLst/>
          </a:prstGeom>
          <a:ln w="0">
            <a:noFill/>
          </a:ln>
        </p:spPr>
      </p:pic>
      <p:pic>
        <p:nvPicPr>
          <p:cNvPr id="143" name="MM%20bar" descr=""/>
          <p:cNvPicPr/>
          <p:nvPr/>
        </p:nvPicPr>
        <p:blipFill>
          <a:blip r:embed="rId3"/>
          <a:stretch/>
        </p:blipFill>
        <p:spPr>
          <a:xfrm>
            <a:off x="4495680" y="5567400"/>
            <a:ext cx="1752840" cy="528480"/>
          </a:xfrm>
          <a:prstGeom prst="rect">
            <a:avLst/>
          </a:prstGeom>
          <a:ln w="0">
            <a:noFill/>
          </a:ln>
        </p:spPr>
      </p:pic>
      <p:pic>
        <p:nvPicPr>
          <p:cNvPr id="144" name="byksang_logo" descr=""/>
          <p:cNvPicPr/>
          <p:nvPr/>
        </p:nvPicPr>
        <p:blipFill>
          <a:blip r:embed="rId4"/>
          <a:stretch/>
        </p:blipFill>
        <p:spPr>
          <a:xfrm>
            <a:off x="7099200" y="5575320"/>
            <a:ext cx="1435320" cy="5205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imes New Roman"/>
              </a:rPr>
              <a:t>Historie </a:t>
            </a:r>
            <a:r>
              <a:rPr b="1" lang="cs-CZ" sz="4400" spc="-1" strike="noStrike">
                <a:solidFill>
                  <a:srgbClr val="ffffcc"/>
                </a:solidFill>
                <a:latin typeface="Times New Roman"/>
              </a:rPr>
              <a:t>www.kcsolid.cz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952560" indent="-5716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květen 1999: první rozhodnut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952560" indent="-5716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červenec-srpen 1999: příprava podkladů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952560" indent="-5716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podzim 1999: realizace www, poptávka </a:t>
            </a:r>
            <a:br>
              <a:rPr sz="3200"/>
            </a:b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po klinickém materiálu z pracovišť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952560" indent="-5716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2.1.2000: základní struktura k dispozici online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952560" indent="-5716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od 2.2.2000: klinická kapitol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kcsolid.cz</a:t>
            </a: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imes New Roman"/>
              </a:rPr>
              <a:t>Základní struktur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895320" indent="-496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úvodní souhrn nabídky a činnost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95320" indent="-496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nukleární medicína: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katalog rf + kit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95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příslušenstv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95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aktuální exspirace kitů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95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zdrav. prostředk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95320" indent="-496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n vitro diagnostik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95320" indent="-496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odkaz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95320" indent="-496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kontak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kcsolid.cz</a:t>
            </a: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imes New Roman"/>
              </a:rPr>
              <a:t>Struktura příspěvků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952560" indent="-528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Forma – kazuistiky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952560" indent="-528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Anamnéza pacienta, předchozí vyšetření, zobraz. metod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952560" indent="-528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Scintigrafie – metodika, obraz. dokumentace, popis nálezu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952560" indent="-528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Další osud pacienta a význam NM vyšetřen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kcsolid.cz</a:t>
            </a: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imes New Roman"/>
              </a:rPr>
              <a:t>Klinická kapitola: vznik a ide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952560" indent="-5288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Minimální informace k oboru v rámci českého internetu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952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66ff"/>
                </a:solidFill>
                <a:latin typeface="Symbol"/>
                <a:ea typeface="Symbol"/>
              </a:rPr>
              <a:t>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952560" indent="-5288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Propagace oboru v rámci zdravotní péče Č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952560" indent="-5288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Výsledky práce ON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952560" indent="-5288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Prezentace výrobků nabízeného sortimentu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952560" indent="-5288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lustrace významu NM pro ostatní lékařské specializace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952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952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952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952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952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kcsolid.cz</a:t>
            </a: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imes New Roman"/>
              </a:rPr>
              <a:t>Klinická kapitola: omezení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952560" indent="-528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Rozsah dán aktuální nabídkou firm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952560" indent="-528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Neklade si za cíl býti vyčerpávající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952560" indent="-528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Ukázka reálného stavu NM v Č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952560" indent="-528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Omezená dostupnost přístupu na internet (?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952560" indent="-528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Omezený okruh autorů (?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952560" indent="-528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Umístěno v rámci komerčního subjektu (?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kcsolid.cz</a:t>
            </a: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imes New Roman"/>
              </a:rPr>
              <a:t>Klinická kapitola: omezení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952560" indent="-5288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Malá informovanost o dané možnosti </a:t>
            </a:r>
            <a:br>
              <a:rPr sz="3200"/>
            </a:b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(odkaz umístěn: Seznam, Atlas, Najdi-To, Medical, ČSNM, Imalab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952560" indent="-528840">
              <a:lnSpc>
                <a:spcPct val="90000"/>
              </a:lnSpc>
              <a:spcBef>
                <a:spcPts val="799"/>
              </a:spcBef>
              <a:buClr>
                <a:srgbClr val="ff66ff"/>
              </a:buClr>
              <a:buSzPct val="75000"/>
              <a:buFont typeface="Wingdings" charset="2"/>
              <a:buChar char="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66ff"/>
                </a:solidFill>
                <a:latin typeface="Times New Roman"/>
              </a:rPr>
              <a:t>***prosíme informujte okolí***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952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lokální sítě, osobní kontakty, oběžníky, pracovní semináře komory, jednoduchý </a:t>
            </a:r>
            <a:br>
              <a:rPr sz="3200"/>
            </a:b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letáček ... </a:t>
            </a:r>
            <a:r>
              <a:rPr b="0" i="1" lang="cs-CZ" sz="3200" spc="-1" strike="noStrike">
                <a:solidFill>
                  <a:srgbClr val="ffffcc"/>
                </a:solidFill>
                <a:latin typeface="Times New Roman"/>
              </a:rPr>
              <a:t>dle dohody s námi</a:t>
            </a:r>
            <a:br>
              <a:rPr sz="3200"/>
            </a:b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kcsolid.cz</a:t>
            </a: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imes New Roman"/>
              </a:rPr>
              <a:t>Statistika ke dni 25.9.2000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952560" indent="-528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únor 2000: 19 kazuistik jako výchozí stav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952560" indent="-528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Aktualizováno dle možností: celkem 9x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952560" indent="-528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Celkem 76 kazuisti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952560" indent="-528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V přípravě: cca 15 k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952560" indent="-528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Počet přístupů: cca 1200 (www celkem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952560" indent="-528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Datový objem: cca 10,2 MB (www celkem, </a:t>
            </a:r>
            <a:br>
              <a:rPr sz="3200"/>
            </a:b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kk cca 6,8 MB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95256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kcsolid.cz</a:t>
            </a: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imes New Roman"/>
              </a:rPr>
              <a:t>Technické údaj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952560" indent="-61272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Umístěno na serveru fy RUNEX, a.s., Rokycany (Linux, připojeno na páteřní síť </a:t>
            </a:r>
            <a:br>
              <a:rPr sz="3200"/>
            </a:b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spol. GTS - 2 MB/s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952560" indent="-61272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Externí spolupráce při realizaci: </a:t>
            </a:r>
            <a:br>
              <a:rPr sz="3200"/>
            </a:b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MK WEB, s.r.o., Plzeň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952560" indent="-61272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SW: W98, MS Office 2000, FrontPage 2000,</a:t>
            </a:r>
            <a:br>
              <a:rPr sz="3200"/>
            </a:b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Corel Photo-Paint 8.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kcsolid.cz</a:t>
            </a: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4T15:12:18Z</dcterms:created>
  <dc:creator>František Zahrádka</dc:creator>
  <dc:description/>
  <dc:language>en-US</dc:language>
  <cp:lastModifiedBy>F.Zahrádka</cp:lastModifiedBy>
  <dcterms:modified xsi:type="dcterms:W3CDTF">2000-11-23T10:20:37Z</dcterms:modified>
  <cp:revision>72</cp:revision>
  <dc:subject/>
  <dc:title>KLINICKÁ NUKLEÁRNÍ MEDICÍNA NA ČESKÉM INTERNETU V RÁMCI STRÁNKY KC SOLID</dc:title>
</cp:coreProperties>
</file>