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F0D-9F2B-43EC-B7C6-722025C7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94B-0005-436B-8F35-76818FD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9EE-FEFE-405B-80E2-7421EF56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CC2-BBD8-4131-AD7E-B0F48586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09D5-3387-4DCB-A9CE-D9638D35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AD1D-62CB-4B50-B84B-F6337CA1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F904-77BB-4336-B6F5-B8A31EA1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A416-5CB7-48F8-A4C8-BAC4A979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9621-AF91-4984-B36D-1878097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0729-A1C7-4C7F-80D9-E5289AAB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F654-C4FA-462F-8201-0ADF092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363-257E-459F-9701-932F7500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3601-F9FE-4DED-A1AC-B057E70A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8C2F-D6D5-4DC7-B5F8-66A75BA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3522-0027-406B-8C14-2F4B48D6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8DF9-DDDD-42A9-9B83-C4B19347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427D-1773-4BFA-B327-A972AD75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7DF-EFCC-4F32-A398-8B20DA2F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00F-B41E-4961-A766-DB46977A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7B6-90DD-4CEC-AA4F-230EFEB8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A3A-CAEA-422A-A0C2-95998140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80D-4FF1-46A8-8F4F-53615D8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422-CAE0-46C9-BDEA-5546511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DB2-64D9-4074-A6EC-4F3C086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8E88-C45A-4B09-B323-07C2E01A7825}" type="slidenum">
              <a:rPr b="0" lang="cs-CZ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5E38-5189-49E3-BC19-47643A703795}" type="slidenum">
              <a:rPr b="0" lang="cs-CZ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ahoma"/>
              </a:rPr>
              <a:t>Kit pro přípravu 99mTc-sulesomabu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8f8f8"/>
                </a:solidFill>
                <a:latin typeface="Tahoma"/>
              </a:rPr>
              <a:t>Pracovní dny sekce radiofarmacie </a:t>
            </a:r>
            <a:br>
              <a:rPr sz="2000"/>
            </a:br>
            <a:r>
              <a:rPr b="0" lang="cs-CZ" sz="2000" spc="-1" strike="noStrike">
                <a:solidFill>
                  <a:srgbClr val="f8f8f8"/>
                </a:solidFill>
                <a:latin typeface="Tahoma"/>
              </a:rPr>
              <a:t>Brno </a:t>
            </a:r>
            <a:br>
              <a:rPr sz="2000"/>
            </a:br>
            <a:r>
              <a:rPr b="0" lang="cs-CZ" sz="2000" spc="-1" strike="noStrike">
                <a:solidFill>
                  <a:srgbClr val="f8f8f8"/>
                </a:solidFill>
                <a:latin typeface="Tahoma"/>
              </a:rPr>
              <a:t>13.-15.6.2001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6D69-9F32-4618-B9D4-5A1E0D2670F2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ahoma"/>
              </a:rPr>
              <a:t>Značení in vitro - obecné princip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odběr krve - separace leu – značení - reinjekce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ahoma"/>
              </a:rPr>
              <a:t>Indikace: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- teplota neznámého původu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- osteomyelitis mimo páteř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- sept.artriti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- abd. absc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- CIB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- záněty měkkých tkání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- infekty vaskulárních protéz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- endokarditi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3EA-C6D2-4FB0-86D9-69D95CAF2FE9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8153280" cy="563868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-1415880" y="2787480"/>
            <a:ext cx="5181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paration time…no comparison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762120"/>
          <a:ext cx="500688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0068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7D3-A5C0-414A-A2B8-AD1962E54B1F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Slož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Sulesomab 0,31 mg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8f8f8"/>
                </a:solidFill>
                <a:latin typeface="Tahoma"/>
              </a:rPr>
              <a:t>(IMMU-MN3 Fab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’</a:t>
            </a:r>
            <a:r>
              <a:rPr b="0" lang="cs-CZ" sz="2000" spc="-1" strike="noStrike">
                <a:solidFill>
                  <a:srgbClr val="f8f8f8"/>
                </a:solidFill>
                <a:latin typeface="Tahoma"/>
              </a:rPr>
              <a:t>-SH fragmenty monoklonální protilátky proti granulocytům... s úpravou pH na 5-7)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Chlorid cínatý 0,22 mg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8f8f8"/>
                </a:solidFill>
                <a:latin typeface="Tahoma"/>
              </a:rPr>
              <a:t>Chlorid sodný, vínan draselno-sodný, octan sodný, sacharosa, argon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Léková forma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f8f8f8"/>
                </a:solidFill>
                <a:latin typeface="Tahoma"/>
              </a:rPr>
              <a:t>Lyofilizát k přípravě injekčního roztok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525-358B-49A1-B9AD-65A767B41DC6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371600"/>
            <a:ext cx="8153280" cy="472428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Fab´fragment protilá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181480" y="1752480"/>
          <a:ext cx="212724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52480"/>
                    <a:ext cx="212724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408400" y="4572000"/>
            <a:ext cx="47242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Gill Sans"/>
              </a:rPr>
              <a:t>       </a:t>
            </a:r>
            <a:r>
              <a:rPr b="1" lang="cs-CZ" sz="2000" spc="-1" strike="noStrike">
                <a:solidFill>
                  <a:srgbClr val="f8f8f8"/>
                </a:solidFill>
                <a:latin typeface="Gill Sans"/>
              </a:rPr>
              <a:t>„</a:t>
            </a:r>
            <a:r>
              <a:rPr b="1" lang="en-US" sz="2200" spc="-1" strike="noStrike">
                <a:solidFill>
                  <a:srgbClr val="f8f8f8"/>
                </a:solidFill>
                <a:latin typeface="Gill Sans"/>
              </a:rPr>
              <a:t>Approved for use in EU (EU/97/032/001)</a:t>
            </a:r>
            <a:r>
              <a:rPr b="1" i="1" lang="cs-CZ" sz="2000" spc="-1" strike="noStrike">
                <a:solidFill>
                  <a:srgbClr val="f8f8f8"/>
                </a:solidFill>
                <a:latin typeface="Gill Sans"/>
              </a:rPr>
              <a:t>“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3300"/>
                </a:solidFill>
                <a:latin typeface="Gill Sans"/>
              </a:rPr>
              <a:t>Registrace v ČR: 88/007/01-C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120" y="1744560"/>
            <a:ext cx="409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3300"/>
                </a:solidFill>
                <a:uFillTx/>
                <a:latin typeface="Tahoma"/>
              </a:rPr>
              <a:t>99mTc-Fab´frag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3300"/>
                </a:solidFill>
                <a:uFillTx/>
                <a:latin typeface="Tahoma"/>
              </a:rPr>
              <a:t>monoklonální protilátk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9CB-8B9C-4C43-92BF-8EBEFF2C563C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Indik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iagnostické zobrazení pro zjištění lokalizace a rozsahu infekcí/zánětů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v kostech u pacientů se suspektní osteomyelitidou, včetně pacientů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s vředy na diabetické noze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Scinti kostí pozit. + LeukoScan negat = = infekce nepravděpodobná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55C-F9BA-4C63-B680-FB7BE85EDB08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Indikace – pro ověření prax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ndikace u dětí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ánětlivé střevní proces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Akutní atypická apendicitid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nfekce kloubních náhra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áněty oblasti pán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Horečka neznámého původu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Endokarditid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C83-4026-44E3-85CC-7CC6A67EDE1E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ffff99"/>
                </a:solidFill>
                <a:latin typeface="Tahoma"/>
              </a:rPr>
              <a:t>99m</a:t>
            </a: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Tc-sulesomab: přín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752480"/>
            <a:ext cx="21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Časné zobrazení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29280" y="184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8f8f8"/>
                </a:solidFill>
                <a:latin typeface="Tahoma"/>
              </a:rPr>
              <a:t>Klinikovi poskytne odpověď brzy a kdykoliv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819520"/>
            <a:ext cx="21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ensitivit</a:t>
            </a: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a </a:t>
            </a: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pecificit</a:t>
            </a: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85%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304812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8f8f8"/>
                </a:solidFill>
                <a:latin typeface="Tahoma"/>
              </a:rPr>
              <a:t>Diagnostická přesnos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Bezpečnos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874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arlett"/>
                <a:ea typeface="Marlett"/>
              </a:rPr>
              <a:t>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30002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arlett"/>
                <a:ea typeface="Marlett"/>
              </a:rPr>
              <a:t>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265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arlett"/>
                <a:ea typeface="Marlett"/>
              </a:rPr>
              <a:t>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49360" y="3886200"/>
            <a:ext cx="31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8f8f8"/>
                </a:solidFill>
                <a:latin typeface="Tahoma"/>
              </a:rPr>
              <a:t>Bez rizik pro personál</a:t>
            </a:r>
            <a:br>
              <a:rPr sz="1800"/>
            </a:br>
            <a:r>
              <a:rPr b="0" i="1" lang="cs-CZ" sz="1800" spc="-1" strike="noStrike">
                <a:solidFill>
                  <a:srgbClr val="f8f8f8"/>
                </a:solidFill>
                <a:latin typeface="Tahoma"/>
              </a:rPr>
              <a:t>Bez rizika záměny krve</a:t>
            </a:r>
            <a:br>
              <a:rPr sz="1800"/>
            </a:br>
            <a:r>
              <a:rPr b="0" i="1" lang="cs-CZ" sz="1800" spc="-1" strike="noStrike">
                <a:solidFill>
                  <a:srgbClr val="f8f8f8"/>
                </a:solidFill>
                <a:latin typeface="Tahoma"/>
              </a:rPr>
              <a:t>Bez reakce HAMA</a:t>
            </a:r>
            <a:br>
              <a:rPr sz="1800"/>
            </a:br>
            <a:r>
              <a:rPr b="0" i="1" lang="cs-CZ" sz="1800" spc="-1" strike="noStrike">
                <a:solidFill>
                  <a:srgbClr val="f8f8f8"/>
                </a:solidFill>
                <a:latin typeface="Tahoma"/>
              </a:rPr>
              <a:t>Umožní opakovanou aplikac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AE2-7D49-40F0-8ECE-67BDADEFBCAF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ahoma"/>
              </a:rPr>
              <a:t>Normální biodistribuce, 15 min. p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990720"/>
            <a:ext cx="8153280" cy="510516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00200" y="1143000"/>
            <a:ext cx="6527880" cy="4965480"/>
            <a:chOff x="1600200" y="1143000"/>
            <a:chExt cx="6527880" cy="496548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95880" y="1143000"/>
              <a:ext cx="2932200" cy="49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1600200" y="1143000"/>
              <a:ext cx="241308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1677960" y="3735360"/>
            <a:ext cx="379440" cy="227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44800" y="4421160"/>
            <a:ext cx="1650960" cy="350640"/>
            <a:chOff x="2044800" y="4421160"/>
            <a:chExt cx="1650960" cy="350640"/>
          </a:xfrm>
        </p:grpSpPr>
        <p:sp>
          <p:nvSpPr>
            <p:cNvPr id="186" name=""/>
            <p:cNvSpPr/>
            <p:nvPr/>
          </p:nvSpPr>
          <p:spPr>
            <a:xfrm flipV="1">
              <a:off x="2044800" y="4524120"/>
              <a:ext cx="409320" cy="247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6320" y="4421160"/>
              <a:ext cx="379440" cy="226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H="1">
            <a:off x="3615840" y="3819600"/>
            <a:ext cx="390600" cy="209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234960" y="3133800"/>
            <a:ext cx="390600" cy="209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21160" y="4981680"/>
            <a:ext cx="409680" cy="247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663960" y="4734000"/>
            <a:ext cx="390600" cy="209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5411880"/>
            <a:ext cx="379440" cy="2268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541-907F-4CB8-9938-D7FF491F1329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1447920"/>
            <a:ext cx="8229600" cy="464796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ahoma"/>
              </a:rPr>
              <a:t>Normální biodistribuce, 1 hod. p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78360" cy="397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81680" y="4648320"/>
            <a:ext cx="379440" cy="2268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105520" y="4191120"/>
            <a:ext cx="409320" cy="247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867280" y="3429000"/>
            <a:ext cx="1447200" cy="304560"/>
            <a:chOff x="5867280" y="3429000"/>
            <a:chExt cx="1447200" cy="304560"/>
          </a:xfrm>
        </p:grpSpPr>
        <p:sp>
          <p:nvSpPr>
            <p:cNvPr id="199" name=""/>
            <p:cNvSpPr/>
            <p:nvPr/>
          </p:nvSpPr>
          <p:spPr>
            <a:xfrm>
              <a:off x="5867280" y="3429000"/>
              <a:ext cx="31248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993000" y="3439440"/>
              <a:ext cx="321480" cy="280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09480" y="2743200"/>
            <a:ext cx="3559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dce, játra, slezina, ledviny, kostní dřeň,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ětší cévy, moč. měchýř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EB0-22B5-4856-99A8-DA7A23C23519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Dávk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oporučená dávka pro dospělého je </a:t>
            </a:r>
            <a:r>
              <a:rPr b="0" lang="cs-CZ" sz="3200" spc="-1" strike="noStrike" u="sng">
                <a:solidFill>
                  <a:srgbClr val="f8f8f8"/>
                </a:solidFill>
                <a:uFillTx/>
                <a:latin typeface="Tahoma"/>
              </a:rPr>
              <a:t>0,25 mg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 Fab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’ 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fragmentu značeného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900 MBq </a:t>
            </a:r>
            <a:r>
              <a:rPr b="0" lang="cs-CZ" sz="3200" spc="-1" strike="noStrike">
                <a:solidFill>
                  <a:srgbClr val="f8f8f8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 200 MBq technecist.(</a:t>
            </a:r>
            <a:r>
              <a:rPr b="0" lang="cs-CZ" sz="3200" spc="-1" strike="noStrike" baseline="30000">
                <a:solidFill>
                  <a:srgbClr val="f8f8f8"/>
                </a:solidFill>
                <a:latin typeface="Tahoma"/>
              </a:rPr>
              <a:t>99m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Tc) sodného v objemu asi 1,2 ml</a:t>
            </a:r>
            <a:br>
              <a:rPr sz="3200"/>
            </a:b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(lahvička obsahuje 0,31 mg…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8f8f8"/>
                </a:solidFill>
                <a:uFillTx/>
                <a:latin typeface="Tahoma"/>
              </a:rPr>
              <a:t>Scintigrafie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 (planárně popř. SPECT)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a 1 – 8 hodin po aplikaci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477-31BB-48A3-82F0-DDC04281282D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Úvodní souhr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Kit pro přípravu radiofarmaka </a:t>
            </a:r>
            <a:br>
              <a:rPr sz="3200"/>
            </a:br>
            <a:r>
              <a:rPr b="0" lang="cs-CZ" sz="3200" spc="-1" strike="noStrike" baseline="30000">
                <a:solidFill>
                  <a:srgbClr val="f8f8f8"/>
                </a:solidFill>
                <a:latin typeface="Tahoma"/>
              </a:rPr>
              <a:t>99m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Tc-sulesomabu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(=Fab´fragment MoAb) …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Tahoma"/>
              </a:rPr>
              <a:t>LeukoSca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ndikace: osteomyelitidy vč. vředů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na diabetické noz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načení kitu: min. 1000 MBq </a:t>
            </a:r>
            <a:r>
              <a:rPr b="0" lang="cs-CZ" sz="3200" spc="-1" strike="noStrike" baseline="30000">
                <a:solidFill>
                  <a:srgbClr val="f8f8f8"/>
                </a:solidFill>
                <a:latin typeface="Tahoma"/>
              </a:rPr>
              <a:t>99m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Tc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Označení krvinek in vivo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EF9-BE97-4176-9E64-240E0A53083C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Farmakokineti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Po i.v. aplikaci je v oběhu přítomno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a 1 hodinu 34 %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a 4 hodiny 17 %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a 24 hodin 7 % původní hodnoty.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Exkrece ledvinami – 41 % radioizotopu vyloučeno během 24 hodin ledvinami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155-9055-43D1-886F-97CA8E1A4941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Znač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Rozpuštění lyofilizátu: 0,50 ml fyz.r., protřepání (30 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Aktivita min. 1000 MBq, /naředění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o 1 ml/ (čerstvý eluát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nkubace 5 minu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Odebrání aktivity k aplikaci </a:t>
            </a:r>
            <a:br>
              <a:rPr sz="3200"/>
            </a:b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(750-1100 MBq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kontrolovat zrakem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E93-415A-4388-8994-35F471D425D0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Bez komentáře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1600200"/>
            <a:ext cx="8397720" cy="2437920"/>
            <a:chOff x="380880" y="1600200"/>
            <a:chExt cx="8397720" cy="2437920"/>
          </a:xfrm>
        </p:grpSpPr>
        <p:pic>
          <p:nvPicPr>
            <p:cNvPr id="210" name="tek3" descr=""/>
            <p:cNvPicPr/>
            <p:nvPr/>
          </p:nvPicPr>
          <p:blipFill>
            <a:blip r:embed="rId1"/>
            <a:stretch/>
          </p:blipFill>
          <p:spPr>
            <a:xfrm>
              <a:off x="5176080" y="1600200"/>
              <a:ext cx="1942560" cy="24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k4" descr=""/>
            <p:cNvPicPr/>
            <p:nvPr/>
          </p:nvPicPr>
          <p:blipFill>
            <a:blip r:embed="rId2"/>
            <a:stretch/>
          </p:blipFill>
          <p:spPr>
            <a:xfrm>
              <a:off x="7329240" y="1600200"/>
              <a:ext cx="1449360" cy="24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tek1" descr=""/>
            <p:cNvPicPr/>
            <p:nvPr/>
          </p:nvPicPr>
          <p:blipFill>
            <a:blip r:embed="rId3"/>
            <a:stretch/>
          </p:blipFill>
          <p:spPr>
            <a:xfrm>
              <a:off x="380880" y="1600200"/>
              <a:ext cx="1396440" cy="24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tek2" descr=""/>
            <p:cNvPicPr/>
            <p:nvPr/>
          </p:nvPicPr>
          <p:blipFill>
            <a:blip r:embed="rId4"/>
            <a:stretch/>
          </p:blipFill>
          <p:spPr>
            <a:xfrm>
              <a:off x="1946520" y="1600200"/>
              <a:ext cx="1368000" cy="24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tek1en4" descr=""/>
            <p:cNvPicPr/>
            <p:nvPr/>
          </p:nvPicPr>
          <p:blipFill>
            <a:blip r:embed="rId5"/>
            <a:stretch/>
          </p:blipFill>
          <p:spPr>
            <a:xfrm>
              <a:off x="3512520" y="1600200"/>
              <a:ext cx="1426680" cy="24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838080" y="4343400"/>
            <a:ext cx="76964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Gill Sans"/>
              </a:rPr>
              <a:t>Příprava hotova během 5 minu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8f8f8"/>
                </a:solidFill>
                <a:latin typeface="Gill Sans"/>
              </a:rPr>
              <a:t>Značení </a:t>
            </a:r>
            <a:r>
              <a:rPr b="1" i="1" lang="cs-CZ" sz="2600" spc="-1" strike="noStrike" u="sng">
                <a:solidFill>
                  <a:srgbClr val="ff3300"/>
                </a:solidFill>
                <a:uFillTx/>
                <a:latin typeface="Gill Sans"/>
              </a:rPr>
              <a:t>in vivo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49B-2A3F-4BCD-B572-7481C2E265A6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Kontrola kv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Pomocí ITLC – silikagel na skleněných vláknech (1x9 cm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Mobilní fáze: acet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10 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ahoma"/>
              </a:rPr>
              <a:t>µ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l vzorku naředit 1,5 ml fyz.r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Obě poloviny proužku změři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Nesmí obsahovat více než 10 % volného techneci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253-E241-462A-976E-A195D6031DA2}" type="slidenum">
              <a:t>23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Uchová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Kit: při teplotě 2-8</a:t>
            </a:r>
            <a:r>
              <a:rPr b="0" lang="cs-CZ" sz="32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Značený roztok: obyčejná teplot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Stabilita a použitelnost</a:t>
            </a: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Stabilita po označení 4 hodin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Kit 4 roky (od výrobního data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0B1-6088-4C7A-9AFB-39337E8F971F}" type="slidenum">
              <a:t>24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ahoma"/>
              </a:rPr>
              <a:t>LeukoSca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EB8-CE55-4178-8CF3-2E6FB8F45B83}" type="slidenum">
              <a:t>25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A8E-E3B0-492F-929E-74EF2198CE31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Úvod do diagnostiky záně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ZÁNĚT: </a:t>
            </a:r>
            <a:br>
              <a:rPr sz="2400"/>
            </a:b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komplexní fyziologická reakce na cizorodou substanci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Cornelius Celsus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RUBOR, CALOR</a:t>
            </a: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 (hyperemie) - dilatace drobných cév pod vlivem snížení pH a vazoaktivních látek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TUMOR</a:t>
            </a: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 (edém) - zvýšená permeabilita kapilár, průnik plazmatických proteinů do extravaskulárního prostoru, zvýšený onkotický tkáňový tlak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DOLOR</a:t>
            </a: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 (bolest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C4D-CDA4-467A-AB03-4B646C9D01BE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ahoma"/>
              </a:rPr>
              <a:t>Úvod do diagnostiky záně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Jedna ze současných definicí zánět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8f8f8"/>
                </a:solidFill>
                <a:latin typeface="Tahoma"/>
              </a:rPr>
              <a:t>reakce mikrocirkulace, charakterizovaná přesunem tekutin a leukocytů z krve do extravaskulárního prostoru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Fantone J.: Pathology, Philadelphia,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ppincott 1994:33-66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0A1-796C-48A3-9F8A-954F3D30548A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ahoma"/>
              </a:rPr>
              <a:t>Přehled scintigrafických metod </a:t>
            </a:r>
            <a:br>
              <a:rPr sz="3200"/>
            </a:br>
            <a:r>
              <a:rPr b="1" lang="cs-CZ" sz="3200" spc="-1" strike="noStrike">
                <a:solidFill>
                  <a:srgbClr val="ffff99"/>
                </a:solidFill>
                <a:latin typeface="Tahoma"/>
              </a:rPr>
              <a:t>pro diagnostiku záně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I. 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třífázová scintigrafie skeletu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II. 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 baseline="30000">
                <a:solidFill>
                  <a:srgbClr val="f8f8f8"/>
                </a:solidFill>
                <a:latin typeface="Tahoma"/>
              </a:rPr>
              <a:t>99m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Tc-nanokoloi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III. 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kovové ionty - </a:t>
            </a:r>
            <a:r>
              <a:rPr b="1" lang="cs-CZ" sz="2400" spc="-1" strike="noStrike" baseline="30000">
                <a:solidFill>
                  <a:srgbClr val="f8f8f8"/>
                </a:solidFill>
                <a:latin typeface="Tahoma"/>
              </a:rPr>
              <a:t>67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Ga citrát, </a:t>
            </a:r>
            <a:r>
              <a:rPr b="1" lang="cs-CZ" sz="2400" spc="-1" strike="noStrike" baseline="30000">
                <a:solidFill>
                  <a:srgbClr val="f8f8f8"/>
                </a:solidFill>
                <a:latin typeface="Tahoma"/>
              </a:rPr>
              <a:t>111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In citrá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IV. 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leukocyty značené radionuklidy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V. 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protilátky polyklonální a monoklonální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VI. 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receptorově specif. proteiny a peptidy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VII. 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ostatní metody </a:t>
            </a:r>
            <a:br>
              <a:rPr sz="2400"/>
            </a:b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(infekton, liposomy, </a:t>
            </a:r>
            <a:r>
              <a:rPr b="1" lang="cs-CZ" sz="2400" spc="-1" strike="noStrike" baseline="30000">
                <a:solidFill>
                  <a:srgbClr val="f8f8f8"/>
                </a:solidFill>
                <a:latin typeface="Tahoma"/>
              </a:rPr>
              <a:t>18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F-FDG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20C-5750-44C5-9BFA-8E76AD4F57D1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19240" y="5562720"/>
            <a:ext cx="137160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55840" y="1523880"/>
            <a:ext cx="1488960" cy="221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9760" y="3581280"/>
            <a:ext cx="780840" cy="990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86080" y="838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8f8f8"/>
                </a:solidFill>
                <a:latin typeface="Gill Sans"/>
              </a:rPr>
              <a:t>vyšetření skeletu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657600" y="838080"/>
            <a:ext cx="3505320" cy="2743200"/>
            <a:chOff x="3657600" y="838080"/>
            <a:chExt cx="3505320" cy="274320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3276720" cy="16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381720" y="2590920"/>
              <a:ext cx="7812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19720" y="8380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8f8f8"/>
                  </a:solidFill>
                  <a:latin typeface="Gill Sans"/>
                </a:rPr>
                <a:t>99m</a:t>
              </a:r>
              <a:r>
                <a:rPr b="1" lang="en-US" sz="2000" spc="-1" strike="noStrike">
                  <a:solidFill>
                    <a:srgbClr val="f8f8f8"/>
                  </a:solidFill>
                  <a:latin typeface="Gill Sans"/>
                </a:rPr>
                <a:t>Tc WBC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619440" y="3809880"/>
            <a:ext cx="342900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915080" y="4572000"/>
            <a:ext cx="78084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10160" y="3352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8f8f8"/>
                </a:solidFill>
                <a:latin typeface="Gill Sans"/>
              </a:rPr>
              <a:t>111</a:t>
            </a:r>
            <a:r>
              <a:rPr b="1" lang="en-US" sz="2000" spc="-1" strike="noStrike">
                <a:solidFill>
                  <a:srgbClr val="f8f8f8"/>
                </a:solidFill>
                <a:latin typeface="Gill Sans"/>
              </a:rPr>
              <a:t>In WBC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2705040" y="472428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43280" y="5638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8f8f8"/>
                </a:solidFill>
                <a:latin typeface="Gill Sans"/>
              </a:rPr>
              <a:t>Ostatní …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840-30A7-4433-9981-2CFCE5B356AC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411880" y="6934320"/>
            <a:ext cx="2133360" cy="80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20760" y="380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ahoma"/>
              </a:rPr>
              <a:t>Zobrazení infekc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37160" y="1344600"/>
            <a:ext cx="2975400" cy="708480"/>
          </a:xfrm>
          <a:prstGeom prst="cloudCallout">
            <a:avLst>
              <a:gd name="adj1" fmla="val -73587"/>
              <a:gd name="adj2" fmla="val 8326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33"/>
                </a:solidFill>
                <a:latin typeface="Gill Sans"/>
              </a:rPr>
              <a:t>Dostupnos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37000" y="2563920"/>
            <a:ext cx="3584160" cy="708480"/>
          </a:xfrm>
          <a:prstGeom prst="cloudCallout">
            <a:avLst>
              <a:gd name="adj1" fmla="val -54879"/>
              <a:gd name="adj2" fmla="val 8595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33"/>
                </a:solidFill>
                <a:latin typeface="Gill Sans"/>
              </a:rPr>
              <a:t>Doba příprav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320" y="1344600"/>
            <a:ext cx="3467520" cy="708480"/>
          </a:xfrm>
          <a:prstGeom prst="cloudCallout">
            <a:avLst>
              <a:gd name="adj1" fmla="val -35416"/>
              <a:gd name="adj2" fmla="val 4740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33"/>
                </a:solidFill>
                <a:latin typeface="Gill Sans"/>
              </a:rPr>
              <a:t>Čas zobrazení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2240" y="3706920"/>
            <a:ext cx="2723400" cy="708480"/>
          </a:xfrm>
          <a:prstGeom prst="cloudCallout">
            <a:avLst>
              <a:gd name="adj1" fmla="val -85365"/>
              <a:gd name="adj2" fmla="val 29481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33"/>
                </a:solidFill>
                <a:latin typeface="Gill Sans"/>
              </a:rPr>
              <a:t>Senzitiv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04560" y="4316400"/>
            <a:ext cx="2676600" cy="708480"/>
          </a:xfrm>
          <a:prstGeom prst="cloudCallout">
            <a:avLst>
              <a:gd name="adj1" fmla="val -77055"/>
              <a:gd name="adj2" fmla="val 34861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33"/>
                </a:solidFill>
                <a:latin typeface="Gill Sans"/>
              </a:rPr>
              <a:t>Specific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4400" y="3402000"/>
            <a:ext cx="1717560" cy="708480"/>
          </a:xfrm>
          <a:prstGeom prst="cloudCallout">
            <a:avLst>
              <a:gd name="adj1" fmla="val -50351"/>
              <a:gd name="adj2" fmla="val 110078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Gill Sans"/>
              </a:rPr>
              <a:t>HAM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96080" y="5459400"/>
            <a:ext cx="3614760" cy="708480"/>
          </a:xfrm>
          <a:prstGeom prst="cloudCallout">
            <a:avLst>
              <a:gd name="adj1" fmla="val -42541"/>
              <a:gd name="adj2" fmla="val 21402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33"/>
                </a:solidFill>
                <a:latin typeface="Gill Sans"/>
              </a:rPr>
              <a:t>Radiační zátě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8160" y="2666880"/>
            <a:ext cx="1201680" cy="1524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26360" y="2335320"/>
            <a:ext cx="1435320" cy="708480"/>
          </a:xfrm>
          <a:prstGeom prst="cloudCallout">
            <a:avLst>
              <a:gd name="adj1" fmla="val -77356"/>
              <a:gd name="adj2" fmla="val 2611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33"/>
                </a:solidFill>
                <a:latin typeface="Gill Sans"/>
              </a:rPr>
              <a:t>Cen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14840" y="5002200"/>
            <a:ext cx="3117600" cy="708480"/>
          </a:xfrm>
          <a:prstGeom prst="cloudCallout">
            <a:avLst>
              <a:gd name="adj1" fmla="val -38050"/>
              <a:gd name="adj2" fmla="val -447356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33"/>
                </a:solidFill>
                <a:latin typeface="Gill Sans"/>
              </a:rPr>
              <a:t>Jiné aspek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70F-DF60-42AB-A70E-5FC7DA8DA8BC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ahoma"/>
              </a:rPr>
              <a:t>Třífázová scintigrafie skele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Fáze: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perfuzní, blood pool, pozdní scintigrafie (kostní přestavba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Indikace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8f8f8"/>
                </a:solidFill>
                <a:uFillTx/>
                <a:latin typeface="Tahoma"/>
              </a:rPr>
              <a:t>při diagnostice </a:t>
            </a:r>
            <a:r>
              <a:rPr b="1" lang="cs-CZ" sz="2400" spc="-1" strike="noStrike" u="sng">
                <a:solidFill>
                  <a:srgbClr val="9933ff"/>
                </a:solidFill>
                <a:uFillTx/>
                <a:latin typeface="Tahoma"/>
              </a:rPr>
              <a:t>osteomyelidy</a:t>
            </a:r>
            <a:r>
              <a:rPr b="1" lang="cs-CZ" sz="2400" spc="-1" strike="noStrike" u="sng">
                <a:solidFill>
                  <a:srgbClr val="f8f8f8"/>
                </a:solidFill>
                <a:uFillTx/>
                <a:latin typeface="Tahoma"/>
              </a:rPr>
              <a:t> vysoká senzitivita, ale nízká specificita</a:t>
            </a:r>
            <a:r>
              <a:rPr b="1" lang="cs-CZ" sz="2400" spc="-1" strike="noStrike">
                <a:solidFill>
                  <a:srgbClr val="f8f8f8"/>
                </a:solidFill>
                <a:latin typeface="Tahoma"/>
              </a:rPr>
              <a:t> (pomáhá při dif. dg. osteomyelitidy a zánětu měkkých tkání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C46-496C-44B3-A0AF-F43CC2F2DD9D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99"/>
                </a:solidFill>
                <a:latin typeface="Tahoma"/>
              </a:rPr>
              <a:t>Spojení senzitivity kostního scanu se specificitou značených leukocytů = </a:t>
            </a:r>
            <a:r>
              <a:rPr b="1" lang="cs-CZ" sz="1800" spc="-1" strike="noStrike" baseline="30000">
                <a:solidFill>
                  <a:srgbClr val="ffff99"/>
                </a:solidFill>
                <a:latin typeface="Tahoma"/>
              </a:rPr>
              <a:t>99m</a:t>
            </a:r>
            <a:r>
              <a:rPr b="1" lang="cs-CZ" sz="2000" spc="-1" strike="noStrike">
                <a:solidFill>
                  <a:srgbClr val="ffff99"/>
                </a:solidFill>
                <a:latin typeface="Tahoma"/>
              </a:rPr>
              <a:t>Tc-sulesom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00200" y="1219320"/>
          <a:ext cx="6400800" cy="50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640080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ě registrováno: LeukoSc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877-6ED9-4CE1-8979-1F156E8CAF17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5:33:42Z</dcterms:created>
  <dc:creator>F.Zahrádka</dc:creator>
  <dc:description/>
  <dc:language>en-US</dc:language>
  <cp:lastModifiedBy>Zahrádka František</cp:lastModifiedBy>
  <dcterms:modified xsi:type="dcterms:W3CDTF">2001-06-13T06:16:18Z</dcterms:modified>
  <cp:revision>78</cp:revision>
  <dc:subject/>
  <dc:title>Nově registrovaná radiofarmaka</dc:title>
</cp:coreProperties>
</file>